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6310-2811-47AA-A9B2-1441B8815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13DF-FEBD-4348-9DD5-C66F1EB0C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3CA6-A404-4135-9873-31CF9BE16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0D07-A402-4452-B160-2DF95C30F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3DF0-501D-4963-BEE8-C902B2CB0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E529-46EF-468E-8D7C-86B36A188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414C-CB35-431A-B9FE-C14075583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0ECA-E0EB-44F4-93C0-42ECA6407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6437-490E-49FA-85E1-C8EFB2B21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7C4C-4603-4928-8A4A-87375971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B2ED-81F9-431A-A0A3-806ABD4E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7A7F-9127-4090-A853-915648E7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B3492-B216-46C8-B74B-E2BAE1256A8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743200" y="1981080"/>
            <a:ext cx="3200400" cy="197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A CONCORDANZA 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EI TEMPI DEL 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NGIUNTIVO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286000" y="990720"/>
            <a:ext cx="409572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 verbi impersonali + ch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mb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ccor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por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vie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ca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cce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i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743200" y="914400"/>
            <a:ext cx="374328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SSERE + aggettivo o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vverbio o nome + ch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85800" y="2590920"/>
          <a:ext cx="7772400" cy="36241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70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è possibi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è probabi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è incer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è be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è opportu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è uti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è diffici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è str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è gius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è importa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è megl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è pegg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è tem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è tradizi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è un ca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è leg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è una vergog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è o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è abitud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2514600"/>
            <a:ext cx="3809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PRESENTE/FUTU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nella frase indipend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azione posteriore o contemporane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CONG. PRES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azione anteri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CONG. PASS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7960" y="2514600"/>
            <a:ext cx="3809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EMPO PASSA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nella frase indipend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azione posteri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COND. PASS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azione contemporane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CONG. IMPERFET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azione anteri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CONG. TRAPASS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981080" y="914400"/>
            <a:ext cx="5019840" cy="13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A CONCORDANZA DEI TEMPI 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EL CONGIUNTIVO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affinché/perché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dami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benché/sebbene/nonostante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obwoh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e 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wenn, falls), 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purché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nur...wen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come se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wie wen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enza che/tranne che/a meno che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außer wenn, es sei denn, da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prima che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bev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n modo tale che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soda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981080" y="1066680"/>
            <a:ext cx="46864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n congiunzioni o locuzion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 cui si esprim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dubbio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on  c´è: che stia ma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desiderio o rimpian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agari ti avessi dato retta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esortazione o comand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i accomod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Consenso e ammissi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he venga pure, mi farà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iac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057400" y="838080"/>
            <a:ext cx="477216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l congiuntivo in proposizion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dipendent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imes New Roman"/>
              </a:rPr>
              <a:t>PER ESERCITARE LE FORME DEL CONGIUNTIVO</a:t>
            </a:r>
            <a:br>
              <a:rPr sz="4000"/>
            </a:br>
            <a:r>
              <a:rPr b="0" lang="de-DE" sz="4000" spc="-1" strike="noStrike">
                <a:solidFill>
                  <a:srgbClr val="000000"/>
                </a:solidFill>
                <a:latin typeface="Times New Roman"/>
              </a:rPr>
              <a:t>in frasi singole</a:t>
            </a:r>
            <a:br>
              <a:rPr sz="40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(hot potato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congiuntivo pres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congiuntivo pass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congiuntivo imperfet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congiuntivo trapass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dal presente al pass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con congiun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imes New Roman"/>
              </a:rPr>
              <a:t>PER ESERCITARE LE FORME DEL CONGIUNTIVO</a:t>
            </a:r>
            <a:br>
              <a:rPr sz="4000"/>
            </a:br>
            <a:r>
              <a:rPr b="0" lang="de-DE" sz="4000" spc="-1" strike="noStrike">
                <a:solidFill>
                  <a:srgbClr val="000000"/>
                </a:solidFill>
                <a:latin typeface="Times New Roman"/>
              </a:rPr>
              <a:t>in testi (hot potatoe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un ritar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581280"/>
            <a:ext cx="6400800" cy="24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819520" y="1447920"/>
            <a:ext cx="3238560" cy="196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 QUATTRO TEMPI 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EL CONGIUNTIVO: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666880" y="3962520"/>
            <a:ext cx="418176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l congiuntivo present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l congiuntivo passat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l congiuntivo imperfetto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l congiuntivo trapassat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-are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arl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parl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parl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arl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amo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parl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ate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parl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-ere/-ire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ett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mett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mett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ett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amo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mett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ate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mett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eccezioni: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ssere –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ia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avere –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abbia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andare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vada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bere –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beva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dare –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dia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dire –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dica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overe –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debba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fare –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faccia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potere –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possa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imanere –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imanga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salire –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alga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sapere –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appia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scegliere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celga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stare –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tia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tenere –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enga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togliere –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olga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scire –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esca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venire –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venga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volere -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vog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905120" y="685800"/>
            <a:ext cx="49910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L CONGIUNTIVO PRESENTE_x000b_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038480" y="1371600"/>
            <a:ext cx="10573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orme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avere/essere al congiuntivo presente + participio passato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2514600"/>
            <a:ext cx="3809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io) 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abbia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parl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tu) 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abbia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conosci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lui/lei) 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abbia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fini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noi) 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abbiamo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chiu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voi) 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abbiate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mes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loro) 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abbiano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pr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960" y="2514600"/>
            <a:ext cx="3809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io) 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ia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andato/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tu) 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ia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sceso/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lui/lei) 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ia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uscito/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noi) 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iamo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rimasti/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voi) 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iate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stati/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loro) 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iano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tornati/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286000" y="457200"/>
            <a:ext cx="45244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L CONGIUNTIVO PASSATO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066680" y="1066680"/>
            <a:ext cx="11620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orme: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-are: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torn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assi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, torn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assi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, torn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asse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torn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assimo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, torn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aste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, torn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ass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-ere: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v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ssi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, av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ssi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, av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sse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v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ssimo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, av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ste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, av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ss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-ire: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fin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ssi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, fin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ssi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, fin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sse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fin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ssimo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, fin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ste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, fin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ss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ccezioni: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bere – 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bevessi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, dare – 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dessi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, dire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dicessi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, fare – 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facessi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, stare –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essi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, tradurre - 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raduces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828800" y="685800"/>
            <a:ext cx="5067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L CONGIUNTIVO IMPERFETTO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962520" y="1447920"/>
            <a:ext cx="130464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ORME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avere/essere al cong. imperfetto</a:t>
            </a:r>
            <a:br>
              <a:rPr sz="3200"/>
            </a:b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 + participio pass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3809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io) 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avessi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mangi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tu) 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avessi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bev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lui/lei) 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avesse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d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noi) 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avessimo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aper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voi) 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aveste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vi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loro) 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avessero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chie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960" y="2438280"/>
            <a:ext cx="3809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io) 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fossi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restato/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tu) 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fossi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riuscito/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lui/lei) 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fosse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partito/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noi) 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fossimo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venuti/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voi) 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foste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arrivati/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loro) </a:t>
            </a: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fossero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stati/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828800" y="533520"/>
            <a:ext cx="521028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L CONGIUNTIVO TRAPASSATO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838080" y="1295280"/>
            <a:ext cx="120024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ORME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2742840"/>
            <a:ext cx="38098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ON VERBI + CHE secondo la concordanza dei tempi del congiun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ON CONGIUNZIONI E LOCU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960" y="2742840"/>
            <a:ext cx="38098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124080" y="838080"/>
            <a:ext cx="2971800" cy="131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L CONGIUNTIVO 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N PROPOSIZIONI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066680" y="2895480"/>
            <a:ext cx="28195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IPENDENTI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029200" y="2895480"/>
            <a:ext cx="3324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DIPENDENTI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verbi che esprimono: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soggettività, opinione, dubbio, incertezza, necessità, possibilità, probabilità, volontà, desiderio, timore, speranza, augurio, attesa, stati d´animo ec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verbi impersonali + 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essere + aggettivo o avverbio o nome + 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600200" y="762120"/>
            <a:ext cx="595296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L CONGIUNTIVO IN PROPOSIZION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IPENDENTI CON VERBI + CH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429000" y="990720"/>
            <a:ext cx="217188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VERBI + CH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nsa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ede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tene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por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bita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spetta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magina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le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e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ibi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petta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mette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n veder l´o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tende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bliga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era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e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iace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idera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rgognars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2T07:41:39Z</dcterms:created>
  <dc:creator>Susanne Kutner</dc:creator>
  <dc:description/>
  <dc:language>en-US</dc:language>
  <cp:lastModifiedBy>Gerhard Hartinger</cp:lastModifiedBy>
  <dcterms:modified xsi:type="dcterms:W3CDTF">2003-02-16T14:57:05Z</dcterms:modified>
  <cp:revision>35</cp:revision>
  <dc:subject/>
  <dc:title>LA CONCORDANZA DEI TEMPI DEL CONGIUNTIVO</dc:title>
</cp:coreProperties>
</file>